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27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50C4-D549-4F4B-AF0B-D3ACBD292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EF8B-9575-485E-89FC-D9A97C56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EB5C-D69D-448F-A7E8-69A1DD401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96B4-545E-4D35-93DA-F0CF6AAE6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C85C-BB6B-4B1C-85BA-4E4C6132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0F8B-7337-4ADA-9378-5D2A510A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A51F-D4DC-4756-9744-97094D30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5A41-162F-4E59-8298-43A86C3C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5D7A-FD93-4DA0-82D8-8E7F5FC7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5581-EA61-426B-99CC-0B7188B8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16E4-EB65-457C-B66C-691D653B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F221-425E-4A9E-B173-D9DCBC0C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F589-62AE-490E-B2D1-F5E185ADD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28600"/>
            <a:ext cx="8763120" cy="6324480"/>
          </a:xfrm>
          <a:prstGeom prst="rect">
            <a:avLst/>
          </a:prstGeom>
          <a:solidFill>
            <a:srgbClr val="9999ff"/>
          </a:solidFill>
          <a:ln w="9360">
            <a:solidFill>
              <a:srgbClr val="a50021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6553440" cy="4365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380880" y="4952880"/>
            <a:ext cx="8382240" cy="13716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81280" y="533412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rebuchet MS"/>
              </a:rPr>
              <a:t>The Top 10 Basics of  Special Education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62120" y="1905120"/>
            <a:ext cx="761976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276720" y="228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10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45720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Steps: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The Basics of Special Education Process under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72200" y="2743200"/>
            <a:ext cx="2743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tep 8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ess is measured and reported to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2286000"/>
            <a:ext cx="5257800" cy="3608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38080" y="2465280"/>
            <a:ext cx="4876920" cy="3249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62120" y="1905120"/>
            <a:ext cx="761976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76720" y="228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10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122" name=""/>
          <p:cNvSpPr/>
          <p:nvPr/>
        </p:nvSpPr>
        <p:spPr>
          <a:xfrm>
            <a:off x="2057400" y="45720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Steps: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The Basics of Special Education Process under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2057400"/>
            <a:ext cx="3962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tep 9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P is re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95680" y="2057400"/>
            <a:ext cx="4419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tep 10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 is reevalu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2895480"/>
            <a:ext cx="2743200" cy="36576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828800" y="3124080"/>
            <a:ext cx="2182680" cy="3276720"/>
          </a:xfrm>
          <a:prstGeom prst="rect">
            <a:avLst/>
          </a:prstGeom>
          <a:ln w="9360">
            <a:solidFill>
              <a:srgbClr val="a50021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7" name=""/>
          <p:cNvSpPr/>
          <p:nvPr/>
        </p:nvSpPr>
        <p:spPr>
          <a:xfrm>
            <a:off x="4267080" y="1905120"/>
            <a:ext cx="0" cy="472428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2895480"/>
            <a:ext cx="2514600" cy="36576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4495680" y="3124080"/>
            <a:ext cx="2133720" cy="327672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4267080" y="1905120"/>
            <a:ext cx="0" cy="472428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 4.99537E-006 L 0 4.99537E-006 E">
                                      <p:cBhvr>
                                        <p:cTn id="140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1371600"/>
            <a:ext cx="830592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1752480"/>
            <a:ext cx="2971800" cy="42674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a50021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380880"/>
            <a:ext cx="373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rebuchet MS"/>
              </a:rPr>
              <a:t>Acronyms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191120" y="457200"/>
            <a:ext cx="7617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5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2438280"/>
            <a:ext cx="2743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880" indent="-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Guess what 5 acronyms are </a:t>
            </a:r>
            <a:r>
              <a:rPr b="0" i="1" lang="en-US" sz="3200" spc="-1" strike="noStrike">
                <a:solidFill>
                  <a:srgbClr val="a50021"/>
                </a:solidFill>
                <a:latin typeface="Times New Roman"/>
              </a:rPr>
              <a:t>so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important, they made this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181480" y="1981080"/>
            <a:ext cx="258444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1371600"/>
            <a:ext cx="830592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685800"/>
            <a:ext cx="3886200" cy="56386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a50021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80880"/>
            <a:ext cx="373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rebuchet MS"/>
              </a:rPr>
              <a:t>Acronyms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86400" y="2514600"/>
            <a:ext cx="33526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Yes, please </a:t>
            </a: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bring me the alphabet soup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990720" y="838080"/>
            <a:ext cx="3598920" cy="541044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142" name=""/>
          <p:cNvSpPr txBox="1"/>
          <p:nvPr/>
        </p:nvSpPr>
        <p:spPr>
          <a:xfrm>
            <a:off x="4952880" y="380880"/>
            <a:ext cx="7621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5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</p:spTree>
  </p:cSld>
  <p:transition spd="slow">
    <p:fade thruBlk="true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819520" y="2438280"/>
            <a:ext cx="3200400" cy="20574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71800" y="2514600"/>
            <a:ext cx="2895480" cy="1905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38088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Acronyms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371600"/>
            <a:ext cx="807732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1752480"/>
            <a:ext cx="1438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IEP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38080" y="5257800"/>
            <a:ext cx="1828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FAP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477120" y="5181480"/>
            <a:ext cx="1828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LR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05320" y="3124080"/>
            <a:ext cx="1828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IDEA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324480" y="1905120"/>
            <a:ext cx="1828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TA&amp;D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133360" y="4114800"/>
            <a:ext cx="10666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2209320" y="236196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715000" y="23623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267080"/>
            <a:ext cx="990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743200" y="457200"/>
            <a:ext cx="7621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5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048120" y="2590920"/>
            <a:ext cx="2895480" cy="1600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304920" y="380880"/>
            <a:ext cx="701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Acronyms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1371600"/>
            <a:ext cx="807732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320" y="4876920"/>
            <a:ext cx="8762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520" indent="-252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6600"/>
                </a:solidFill>
                <a:latin typeface="Menthol"/>
              </a:rPr>
              <a:t>I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ndividuals with </a:t>
            </a:r>
            <a:r>
              <a:rPr b="0" i="1" lang="en-US" sz="4000" spc="-1" strike="noStrike">
                <a:solidFill>
                  <a:srgbClr val="cc6600"/>
                </a:solidFill>
                <a:latin typeface="Menthol"/>
              </a:rPr>
              <a:t>D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isabilities </a:t>
            </a:r>
            <a:r>
              <a:rPr b="0" i="1" lang="en-US" sz="4000" spc="-1" strike="noStrike">
                <a:solidFill>
                  <a:srgbClr val="cc6600"/>
                </a:solidFill>
                <a:latin typeface="Menthol"/>
              </a:rPr>
              <a:t>E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ducation </a:t>
            </a:r>
            <a:r>
              <a:rPr b="0" i="1" lang="en-US" sz="4000" spc="-1" strike="noStrike">
                <a:solidFill>
                  <a:srgbClr val="cc6600"/>
                </a:solidFill>
                <a:latin typeface="Menthol"/>
              </a:rPr>
              <a:t>A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55627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56386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Our nation’s special education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2895480"/>
            <a:ext cx="2133720" cy="825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00"/>
                </a:solidFill>
                <a:latin typeface="Jester"/>
              </a:rPr>
              <a:t>IDE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09480" y="380880"/>
            <a:ext cx="7621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5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</p:spTree>
  </p:cSld>
  <p:transition spd="slow">
    <p:fade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-304920" y="380880"/>
            <a:ext cx="701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Acronyms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371600"/>
            <a:ext cx="807732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320" y="4876920"/>
            <a:ext cx="8762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520" indent="-252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6600"/>
                </a:solidFill>
                <a:latin typeface="Menthol"/>
              </a:rPr>
              <a:t>F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ree </a:t>
            </a:r>
            <a:r>
              <a:rPr b="0" i="1" lang="en-US" sz="4000" spc="-1" strike="noStrike">
                <a:solidFill>
                  <a:srgbClr val="cc6600"/>
                </a:solidFill>
                <a:latin typeface="Menthol"/>
              </a:rPr>
              <a:t>A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ppropriate </a:t>
            </a:r>
            <a:r>
              <a:rPr b="0" i="1" lang="en-US" sz="4000" spc="-1" strike="noStrike">
                <a:solidFill>
                  <a:srgbClr val="cc6600"/>
                </a:solidFill>
                <a:latin typeface="Menthol"/>
              </a:rPr>
              <a:t>P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ublic </a:t>
            </a:r>
            <a:r>
              <a:rPr b="0" i="1" lang="en-US" sz="4000" spc="-1" strike="noStrike">
                <a:solidFill>
                  <a:srgbClr val="cc6600"/>
                </a:solidFill>
                <a:latin typeface="Menthol"/>
              </a:rPr>
              <a:t>E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55627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571500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What States must make available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to all eligible children with dis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380880"/>
            <a:ext cx="7621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5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2057400"/>
            <a:ext cx="2895840" cy="18288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2590920"/>
            <a:ext cx="2133360" cy="825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00"/>
                </a:solidFill>
                <a:latin typeface="Jester"/>
              </a:rPr>
              <a:t>FAP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-228600" y="38088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Acronyms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1371600"/>
            <a:ext cx="84582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1828800"/>
            <a:ext cx="2895480" cy="18288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4343400"/>
            <a:ext cx="7086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160" indent="-216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Menthol"/>
              </a:rPr>
              <a:t>L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east </a:t>
            </a:r>
            <a:r>
              <a:rPr b="0" i="1" lang="en-US" sz="4400" spc="-1" strike="noStrike">
                <a:solidFill>
                  <a:srgbClr val="cc6600"/>
                </a:solidFill>
                <a:latin typeface="Menthol"/>
              </a:rPr>
              <a:t>R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estrictive </a:t>
            </a:r>
            <a:r>
              <a:rPr b="0" i="1" lang="en-US" sz="4400" spc="-1" strike="noStrike">
                <a:solidFill>
                  <a:srgbClr val="cc6600"/>
                </a:solidFill>
                <a:latin typeface="Menthol"/>
              </a:rPr>
              <a:t>E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76520" y="510552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09480" y="380880"/>
            <a:ext cx="7621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5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179" name=""/>
          <p:cNvSpPr/>
          <p:nvPr/>
        </p:nvSpPr>
        <p:spPr>
          <a:xfrm>
            <a:off x="3352680" y="2286000"/>
            <a:ext cx="2133720" cy="825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00"/>
                </a:solidFill>
                <a:latin typeface="Jester"/>
              </a:rPr>
              <a:t>L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548640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Children with disabilities are to be educated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with children who do not have disabilities,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to the maximum extent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0"/>
                            </p:stCondLst>
                            <p:childTnLst>
                              <p:par>
                                <p:cTn id="21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8305920" cy="5584680"/>
          </a:xfrm>
          <a:prstGeom prst="rect">
            <a:avLst/>
          </a:prstGeom>
          <a:ln w="76320">
            <a:solidFill>
              <a:srgbClr val="cc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>
    <p:fade thruBlk="true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-228600" y="38088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Acronyms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1371600"/>
            <a:ext cx="84582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70360" y="2205000"/>
            <a:ext cx="2895480" cy="18288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47920" y="4267080"/>
            <a:ext cx="6858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520" indent="-2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6600"/>
                </a:solidFill>
                <a:latin typeface="Menthol"/>
              </a:rPr>
              <a:t>I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ndividualized </a:t>
            </a:r>
            <a:r>
              <a:rPr b="0" i="1" lang="en-US" sz="4000" spc="-1" strike="noStrike">
                <a:solidFill>
                  <a:srgbClr val="cc6600"/>
                </a:solidFill>
                <a:latin typeface="Menthol"/>
              </a:rPr>
              <a:t>E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ducation </a:t>
            </a:r>
            <a:r>
              <a:rPr b="0" i="1" lang="en-US" sz="4000" spc="-1" strike="noStrike">
                <a:solidFill>
                  <a:srgbClr val="cc6600"/>
                </a:solidFill>
                <a:latin typeface="Menthol"/>
              </a:rPr>
              <a:t>P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76520" y="50292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533412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Every public school child with disabilities receiving IDEA-funded special education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must have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09480" y="380880"/>
            <a:ext cx="7621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5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189" name=""/>
          <p:cNvSpPr/>
          <p:nvPr/>
        </p:nvSpPr>
        <p:spPr>
          <a:xfrm>
            <a:off x="3276720" y="2666880"/>
            <a:ext cx="2133360" cy="825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00"/>
                </a:solidFill>
                <a:latin typeface="Jester"/>
              </a:rPr>
              <a:t>IE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40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This module looks at</a:t>
            </a:r>
            <a:r>
              <a:rPr b="0" lang="en-US" sz="4000" spc="-1" strike="noStrike">
                <a:solidFill>
                  <a:srgbClr val="000099"/>
                </a:solidFill>
                <a:latin typeface="Trebuchet MS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666880"/>
            <a:ext cx="3048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s in the special education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143000"/>
            <a:ext cx="373392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90720" y="1676520"/>
            <a:ext cx="16002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10...</a:t>
            </a:r>
            <a:endParaRPr b="0" lang="en-US" sz="4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781680" y="3962520"/>
            <a:ext cx="16002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5...</a:t>
            </a:r>
            <a:endParaRPr b="0" lang="en-US" sz="4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038480" y="2743200"/>
            <a:ext cx="16002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5...</a:t>
            </a:r>
            <a:endParaRPr b="0" lang="en-US" sz="4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51" name=""/>
          <p:cNvSpPr/>
          <p:nvPr/>
        </p:nvSpPr>
        <p:spPr>
          <a:xfrm>
            <a:off x="3733920" y="3733920"/>
            <a:ext cx="2514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ronym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53080" y="5029200"/>
            <a:ext cx="2286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terms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-228600" y="38088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Acronyms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1371600"/>
            <a:ext cx="84582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71800" y="1828800"/>
            <a:ext cx="2895480" cy="18288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4038480"/>
            <a:ext cx="8382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080" indent="-1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Menthol"/>
              </a:rPr>
              <a:t>T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echnical </a:t>
            </a:r>
            <a:r>
              <a:rPr b="0" i="1" lang="en-US" sz="4400" spc="-1" strike="noStrike">
                <a:solidFill>
                  <a:srgbClr val="cc6600"/>
                </a:solidFill>
                <a:latin typeface="Menthol"/>
              </a:rPr>
              <a:t>A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ssistance </a:t>
            </a:r>
            <a:br>
              <a:rPr sz="3200"/>
            </a:b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  &amp; </a:t>
            </a:r>
            <a:r>
              <a:rPr b="0" i="1" lang="en-US" sz="4400" spc="-1" strike="noStrike">
                <a:solidFill>
                  <a:srgbClr val="cc6600"/>
                </a:solidFill>
                <a:latin typeface="Menthol"/>
              </a:rPr>
              <a:t>D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issemination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09680" y="56386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579132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Need hel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09480" y="380880"/>
            <a:ext cx="7621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5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197" name=""/>
          <p:cNvSpPr/>
          <p:nvPr/>
        </p:nvSpPr>
        <p:spPr>
          <a:xfrm>
            <a:off x="3352680" y="2362320"/>
            <a:ext cx="2133720" cy="825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00"/>
                </a:solidFill>
                <a:latin typeface="Jester"/>
              </a:rPr>
              <a:t>TA</a:t>
            </a:r>
            <a:r>
              <a:rPr b="0" lang="en-US" sz="4000" spc="-1" strike="noStrike">
                <a:solidFill>
                  <a:srgbClr val="cc6600"/>
                </a:solidFill>
                <a:latin typeface="Jester"/>
              </a:rPr>
              <a:t>&amp;</a:t>
            </a:r>
            <a:r>
              <a:rPr b="0" lang="en-US" sz="4800" spc="-1" strike="noStrike">
                <a:solidFill>
                  <a:srgbClr val="cc6600"/>
                </a:solidFill>
                <a:latin typeface="Jester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505320" y="762120"/>
            <a:ext cx="27432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28600" y="228600"/>
            <a:ext cx="3047760" cy="3733560"/>
            <a:chOff x="228600" y="228600"/>
            <a:chExt cx="3047760" cy="3733560"/>
          </a:xfrm>
        </p:grpSpPr>
        <p:sp>
          <p:nvSpPr>
            <p:cNvPr id="200" name=""/>
            <p:cNvSpPr/>
            <p:nvPr/>
          </p:nvSpPr>
          <p:spPr>
            <a:xfrm>
              <a:off x="228600" y="228600"/>
              <a:ext cx="3047760" cy="3733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2"/>
            <a:stretch/>
          </p:blipFill>
          <p:spPr>
            <a:xfrm>
              <a:off x="304560" y="304560"/>
              <a:ext cx="2860920" cy="3505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1066680" y="1905120"/>
            <a:ext cx="3103560" cy="4643280"/>
          </a:xfrm>
          <a:prstGeom prst="rect">
            <a:avLst/>
          </a:prstGeom>
          <a:ln w="57240">
            <a:solidFill>
              <a:srgbClr val="ffff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6553080" y="304920"/>
            <a:ext cx="2352960" cy="3657600"/>
          </a:xfrm>
          <a:prstGeom prst="rect">
            <a:avLst/>
          </a:prstGeom>
          <a:ln w="38160">
            <a:solidFill>
              <a:srgbClr val="0000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4495680" y="3657600"/>
            <a:ext cx="4445280" cy="2955960"/>
          </a:xfrm>
          <a:prstGeom prst="rect">
            <a:avLst/>
          </a:prstGeom>
          <a:ln w="38160">
            <a:solidFill>
              <a:srgbClr val="cc66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49000">
    <p:fade thruBlk="true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0"/>
                            </p:stCondLst>
                            <p:childTnLst>
                              <p:par>
                                <p:cTn id="2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819520" y="2438280"/>
            <a:ext cx="3200400" cy="20574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2514600"/>
            <a:ext cx="2895480" cy="1905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800" y="38088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Acronyms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1371600"/>
            <a:ext cx="807732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838080" y="1752480"/>
            <a:ext cx="1438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IEP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838080" y="5257800"/>
            <a:ext cx="1828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FAP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477120" y="5181480"/>
            <a:ext cx="1828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LR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505320" y="3124080"/>
            <a:ext cx="1828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IDEA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324480" y="1905120"/>
            <a:ext cx="1828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TA&amp;D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133360" y="4114800"/>
            <a:ext cx="10666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2209320" y="236196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715000" y="23623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4267080"/>
            <a:ext cx="990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743200" y="457200"/>
            <a:ext cx="7621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5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1905120"/>
            <a:ext cx="761976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276720" y="228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10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45720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Steps: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The Basics of Special Education Process under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2286000"/>
            <a:ext cx="3886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2880" indent="-28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tep 1.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 is identified as possibly needing special education and relate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410080" y="2209680"/>
            <a:ext cx="2787840" cy="4191120"/>
          </a:xfrm>
          <a:prstGeom prst="rect">
            <a:avLst/>
          </a:prstGeom>
          <a:ln w="93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62120" y="1905120"/>
            <a:ext cx="761976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276720" y="228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10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45720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Steps: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The Basics of Special Education Process under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2286000"/>
            <a:ext cx="3886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2880" indent="-28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Step 1.</a:t>
            </a: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Child is identified as possibly needing special education and relate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4572000"/>
            <a:ext cx="3886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tep 2.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 is evalu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562720" y="2286000"/>
            <a:ext cx="2684520" cy="4038480"/>
          </a:xfrm>
          <a:prstGeom prst="rect">
            <a:avLst/>
          </a:prstGeom>
          <a:ln w="93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2133720"/>
            <a:ext cx="2971800" cy="42670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1905120"/>
            <a:ext cx="761976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76720" y="228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10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45720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Steps: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The Basics of Special Education Process under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2209680"/>
            <a:ext cx="3886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tep 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gibility is dec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3809880"/>
            <a:ext cx="3886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rents are part of the group that decides elig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1905120"/>
            <a:ext cx="0" cy="441936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066680" y="2286000"/>
            <a:ext cx="2632320" cy="3962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914400" y="2057400"/>
            <a:ext cx="3198960" cy="4419720"/>
          </a:xfrm>
          <a:prstGeom prst="rect">
            <a:avLst/>
          </a:prstGeom>
          <a:ln w="9360">
            <a:solidFill>
              <a:srgbClr val="006666"/>
            </a:solidFill>
            <a:miter/>
          </a:ln>
        </p:spPr>
      </p:pic>
    </p:spTree>
  </p:cSld>
  <p:transition spd="slow">
    <p:fade thruBlk="true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0880" y="2514600"/>
            <a:ext cx="4343400" cy="289548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a50021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1905120"/>
            <a:ext cx="761976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76720" y="228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10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76" name=""/>
          <p:cNvSpPr/>
          <p:nvPr/>
        </p:nvSpPr>
        <p:spPr>
          <a:xfrm>
            <a:off x="2057400" y="45720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Steps: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The Basics of Special Education Process under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2133720"/>
            <a:ext cx="3886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Step 3.</a:t>
            </a: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Eligibility is dec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5181480"/>
            <a:ext cx="3886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tep 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 is found eligible for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4114800"/>
            <a:ext cx="762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24480" y="3200400"/>
            <a:ext cx="0" cy="17524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33520" y="2666880"/>
            <a:ext cx="4047840" cy="259092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33520" y="2590920"/>
            <a:ext cx="4038480" cy="2695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90720" y="2133720"/>
            <a:ext cx="4876560" cy="41148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1905120"/>
            <a:ext cx="761976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76720" y="228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10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45720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Steps: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The Basics of Special Education Process under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2819520"/>
            <a:ext cx="1828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tep 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P meeting is schedu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419720"/>
            <a:ext cx="1600200" cy="0"/>
          </a:xfrm>
          <a:prstGeom prst="line">
            <a:avLst/>
          </a:prstGeom>
          <a:ln w="3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4572000"/>
            <a:ext cx="1295280" cy="0"/>
          </a:xfrm>
          <a:prstGeom prst="line">
            <a:avLst/>
          </a:prstGeom>
          <a:ln w="3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0" y="4724280"/>
            <a:ext cx="1066680" cy="0"/>
          </a:xfrm>
          <a:prstGeom prst="line">
            <a:avLst/>
          </a:prstGeom>
          <a:ln w="3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143000" y="2286000"/>
            <a:ext cx="4572000" cy="381168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</p:spTree>
  </p:cSld>
  <p:transition spd="slow"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90720" y="2133720"/>
            <a:ext cx="7162560" cy="34290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1905120"/>
            <a:ext cx="761976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76720" y="228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10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95" name=""/>
          <p:cNvSpPr/>
          <p:nvPr/>
        </p:nvSpPr>
        <p:spPr>
          <a:xfrm>
            <a:off x="2057400" y="45720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Steps: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The Basics of Special Education Process under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5791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tep 6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P meeting is held, and the IEP is wri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124080" y="2209680"/>
            <a:ext cx="4876920" cy="324828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2590920" y="2286000"/>
            <a:ext cx="0" cy="2819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2362320"/>
            <a:ext cx="0" cy="266688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590920"/>
            <a:ext cx="0" cy="22860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2743200"/>
            <a:ext cx="0" cy="19810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2971800"/>
            <a:ext cx="0" cy="16002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62120" y="2133720"/>
            <a:ext cx="7162560" cy="34290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1905120"/>
            <a:ext cx="761976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76720" y="228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Jester"/>
              </a:rPr>
              <a:t>10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Jester"/>
              <a:ea typeface="Jester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5720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Steps: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The Basics of Special Education Process under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5791320"/>
            <a:ext cx="7696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tep 7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s are prov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315200" y="2286000"/>
            <a:ext cx="0" cy="2819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7086600" y="2362320"/>
            <a:ext cx="0" cy="266688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6858000" y="2590920"/>
            <a:ext cx="0" cy="22860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553080" y="2742840"/>
            <a:ext cx="0" cy="19810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248520" y="2971440"/>
            <a:ext cx="0" cy="16002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219320" y="2362320"/>
            <a:ext cx="4419360" cy="29494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  <p:transition spd="slow"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2T16:41:37Z</dcterms:created>
  <dc:creator>Lisa Kupper</dc:creator>
  <dc:description/>
  <dc:language>en-US</dc:language>
  <cp:lastModifiedBy>Erik</cp:lastModifiedBy>
  <dcterms:modified xsi:type="dcterms:W3CDTF">2009-04-16T15:19:54Z</dcterms:modified>
  <cp:revision>483</cp:revision>
  <dc:subject/>
  <dc:title>History of IDEA</dc:title>
</cp:coreProperties>
</file>